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92C7-E340-4F93-ABC6-2FFAE1F4D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5F37-A74E-4D9A-BFE9-C73965307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C529-F62A-438E-81B7-DC479796C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1038-5305-4818-B197-7CBD99043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5998-7A33-4318-B5C7-DE592E913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BD84-8C23-46F6-AB74-DCBBBE542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F226-5725-4C7E-A103-A7BDEB5C7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BBB5-B05D-45B7-B71D-18258D968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C7F2-C7F7-4B01-9351-9F7A0EBD1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7DC0-653A-4F8F-AAB9-59CE02142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F27C-0E33-4DB3-A323-5C5322D83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B2A4-2560-4A2B-9680-293018060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0BAC9-AC2A-420E-930F-D720E88522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fr.wikipedia.org/wiki/A&#233;roport_de_Marseille_Provence" TargetMode="External"/><Relationship Id="rId3" Type="http://schemas.openxmlformats.org/officeDocument/2006/relationships/hyperlink" Target="http://fr.wikipedia.org/wiki/A&#233;roport_de_Marseille_Provence" TargetMode="External"/><Relationship Id="rId4" Type="http://schemas.openxmlformats.org/officeDocument/2006/relationships/hyperlink" Target="http://fr.wikipedia.org/wiki/A&#233;roport_de_Marseille_Provence" TargetMode="External"/><Relationship Id="rId5" Type="http://schemas.openxmlformats.org/officeDocument/2006/relationships/hyperlink" Target="http://fr.wikipedia.org/wiki/A&#233;roport_de_Marseille_Provence" TargetMode="External"/><Relationship Id="rId6" Type="http://schemas.openxmlformats.org/officeDocument/2006/relationships/hyperlink" Target="http://fr.wikipedia.org/wiki/A&#233;roport_de_Marseille_Provence" TargetMode="External"/><Relationship Id="rId7" Type="http://schemas.openxmlformats.org/officeDocument/2006/relationships/hyperlink" Target="http://fr.wikipedia.org/wiki/A&#233;roport_de_Marseille_Provence" TargetMode="External"/><Relationship Id="rId8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119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800" spc="-1" strike="noStrike" u="sng">
                <a:solidFill>
                  <a:srgbClr val="000000"/>
                </a:solidFill>
                <a:uFillTx/>
                <a:latin typeface="Arial"/>
              </a:rPr>
              <a:t>Marseil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ffffff"/>
                </a:solidFill>
                <a:latin typeface="Arial"/>
              </a:rPr>
              <a:t>Palais</a:t>
            </a:r>
            <a:r>
              <a:rPr b="1" i="1" lang="pt-BR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pt-BR" sz="4400" spc="-1" strike="noStrike">
                <a:solidFill>
                  <a:srgbClr val="ffffff"/>
                </a:solidFill>
                <a:latin typeface="Arial"/>
              </a:rPr>
              <a:t>Longcham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Fichier:Marseille Palais Longchamp At Night JD 22052007.jpg"/>
          <p:cNvPicPr/>
          <p:nvPr/>
        </p:nvPicPr>
        <p:blipFill>
          <a:blip r:embed="rId1"/>
          <a:stretch/>
        </p:blipFill>
        <p:spPr>
          <a:xfrm>
            <a:off x="0" y="1628640"/>
            <a:ext cx="914400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VDM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400" spc="-1" strike="noStrike" u="sng">
                <a:solidFill>
                  <a:srgbClr val="000000"/>
                </a:solidFill>
                <a:uFillTx/>
                <a:latin typeface="Arial"/>
              </a:rPr>
              <a:t>Musée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-6480"/>
            <a:ext cx="9144000" cy="687096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000000"/>
                </a:solidFill>
                <a:latin typeface="Arial"/>
              </a:rPr>
              <a:t>Le Musée d’Histoire de Marseille </a:t>
            </a:r>
            <a:r>
              <a:rPr b="0" i="1" lang="es-E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Fichier:Maison diamantée.jpg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400" spc="-1" strike="noStrike">
                <a:solidFill>
                  <a:srgbClr val="ffffff"/>
                </a:solidFill>
                <a:latin typeface="Arial"/>
              </a:rPr>
              <a:t>Le musée du Vieux</a:t>
            </a:r>
            <a:br>
              <a:rPr sz="4400"/>
            </a:br>
            <a:r>
              <a:rPr b="1" i="1" lang="es-ES" sz="4400" spc="-1" strike="noStrike">
                <a:solidFill>
                  <a:srgbClr val="ffffff"/>
                </a:solidFill>
                <a:latin typeface="Arial"/>
              </a:rPr>
              <a:t> 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400" spc="-1" strike="noStrike">
                <a:solidFill>
                  <a:srgbClr val="000000"/>
                </a:solidFill>
                <a:latin typeface="Arial"/>
              </a:rPr>
              <a:t>Le Musée d'art contemporai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Entrez sur l'annuaire SPORTS IN MARSEILL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BouillabaisseThaiStyle"/>
          <p:cNvPicPr/>
          <p:nvPr/>
        </p:nvPicPr>
        <p:blipFill>
          <a:blip r:embed="rId1"/>
          <a:stretch/>
        </p:blipFill>
        <p:spPr>
          <a:xfrm>
            <a:off x="1116000" y="1268280"/>
            <a:ext cx="6985080" cy="467532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Arial"/>
              </a:rPr>
              <a:t>Bouillabaiss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ffff"/>
                </a:solidFill>
                <a:latin typeface="Arial"/>
              </a:rPr>
              <a:t>Panis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484360" y="1461960"/>
            <a:ext cx="403236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ffff"/>
                </a:solidFill>
                <a:latin typeface="Arial"/>
              </a:rPr>
              <a:t>Bourr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190600" y="1881360"/>
            <a:ext cx="4762800" cy="30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96360" cy="704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400" spc="-1" strike="noStrike" u="sng">
                <a:solidFill>
                  <a:srgbClr val="000000"/>
                </a:solidFill>
                <a:uFillTx/>
                <a:latin typeface="Arial"/>
              </a:rPr>
              <a:t>Le Transpor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055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400" spc="-1" strike="noStrike" u="sng">
                <a:solidFill>
                  <a:srgbClr val="ffffff"/>
                </a:solidFill>
                <a:uFillTx/>
                <a:latin typeface="Arial"/>
              </a:rPr>
              <a:t>Mètro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96360" cy="77468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Tramway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009999"/>
                </a:solidFill>
                <a:latin typeface="Arial"/>
              </a:rPr>
              <a:t>L'</a:t>
            </a:r>
            <a:r>
              <a:rPr b="0" lang="es-ES" sz="4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aéroport</a:t>
            </a:r>
            <a:r>
              <a:rPr b="0" lang="es-ES" sz="4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 </a:t>
            </a:r>
            <a:r>
              <a:rPr b="0" lang="es-ES" sz="4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international</a:t>
            </a:r>
            <a:r>
              <a:rPr b="0" lang="es-ES" sz="4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 </a:t>
            </a:r>
            <a:r>
              <a:rPr b="0" lang="es-ES" sz="4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Marseille</a:t>
            </a:r>
            <a:r>
              <a:rPr b="0" lang="es-ES" sz="4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-Provence</a:t>
            </a:r>
            <a:r>
              <a:rPr b="0" lang="es-ES" sz="40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400" spc="-1" strike="noStrike" u="sng">
                <a:solidFill>
                  <a:srgbClr val="ffffff"/>
                </a:solidFill>
                <a:uFillTx/>
                <a:latin typeface="Arial"/>
              </a:rPr>
              <a:t>Le Vieux-Port </a:t>
            </a:r>
            <a:r>
              <a:rPr b="0" lang="es-E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Arial"/>
              </a:rPr>
              <a:t>L’abbaye </a:t>
            </a:r>
            <a:r>
              <a:rPr b="1" i="1" lang="es-ES" sz="4400" spc="-1" strike="noStrike">
                <a:solidFill>
                  <a:srgbClr val="ffffff"/>
                </a:solidFill>
                <a:latin typeface="Arial"/>
              </a:rPr>
              <a:t>Saint-Victor</a:t>
            </a:r>
            <a:r>
              <a:rPr b="0" lang="es-E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File:Notre Dame de la Gard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000000"/>
                </a:solidFill>
                <a:latin typeface="Arial"/>
              </a:rPr>
              <a:t>La Basilique de Notre Dame de la Garde</a:t>
            </a:r>
            <a:r>
              <a:rPr b="0" i="1" lang="es-E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9T19:34:24Z</dcterms:created>
  <dc:creator>Anii</dc:creator>
  <dc:description/>
  <dc:language>en-US</dc:language>
  <cp:lastModifiedBy>Anii</cp:lastModifiedBy>
  <dcterms:modified xsi:type="dcterms:W3CDTF">2011-04-20T12:58:02Z</dcterms:modified>
  <cp:revision>4</cp:revision>
  <dc:subject/>
  <dc:title>Marseille</dc:title>
</cp:coreProperties>
</file>